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C4BC-A7E9-45FB-A0A0-87E2EA3D2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358A-829F-4C5C-9AEC-1D757A58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EF16-D2D2-4FC2-A2FE-4E4FBC178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3192-2CB2-4A38-9FA1-B9A0A09EE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CB2C-0632-4ED8-A423-E0457A7F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5649-FAD1-499E-A976-9D7F02D6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4FC8-3171-4089-A93A-554164F0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1516-2949-4E72-AEF5-44BBFD1C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3F67-D243-4736-A56A-7C8597A7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05F5-8903-4BA9-B89F-A835CEEA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5771-0E95-4177-8E8A-0AC089B8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5C88-A0B8-4312-A865-9CBA797B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04AA-3B81-4643-B504-BDC85627B4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«Моя мечта… професс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788000" y="1600200"/>
            <a:ext cx="389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БОУ «Средняя школа №9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МР 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лассный час в 11 В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ководитель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лчанова Мария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43210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 факторов выбора профессии /по Е.А. Климову/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6 фактор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Уровень притязаний на общественное признание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анируя свой трудовой путь, очень важно позаботиться о реалистичности своих притяза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 факторов выбора профессии /по Е.А. Климову/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7 фактор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Информированност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обходимо владеть  информацией о професси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360216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 факторов выбора профессии /по Е.А. Климову/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8 фактор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Склонности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ловек будет успешен в той деятельности, которая ему по душ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067280" y="1484280"/>
            <a:ext cx="46195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 факторов выбора професси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Позиция старших членов семь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Позиция товарищей, подру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Позиция учителей, школьных педагог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Личные профессиональные пла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Способ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Уровень притязаний на общественное призн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Информирован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Склон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ипичные ошибки при выборе профе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знание мира професс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знание себ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знание правил выбора професс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"Правильный выбор профессии позволяет реализовать свой творческий потенциал, избежать разочарования, оградить себя и свою семью от нищеты и неуверенности в завтрашнем дне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Виктор Гю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39640" y="-36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"Важно не то место, которое мы занимаем, а то направление, в котором мы движемся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Лев Толстой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товые разработ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mages.yandex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3300"/>
                </a:solidFill>
                <a:latin typeface="Arial"/>
              </a:rPr>
              <a:t>«Тот, кто с детства знает, что труд есть закон жизни, кто смолоду понял, что хлеб добывается только в поте лица, тот способен к подвигу, потому что в нужный день и час у него найдётся воля его выполнить и силы для этого» (Жюль Вер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0" y="1197000"/>
            <a:ext cx="4572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33240" y="685800"/>
            <a:ext cx="7877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«Кем ты будешь, когда вырастешь?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 факторов выбора профессии /по Е.А. Климову/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1 фактор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Позиция старших членов семьи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ужой выбор часто бывает неудачен. Дети иногда идут по стопам родителей, в результате получаются династии врачей, учителе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356000" y="1413000"/>
            <a:ext cx="47880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 факторов выбора профессии /по Е.А. Климову/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2 фактор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Позиция товарищей, подруг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вильным будет решение, которое соответствует твоим интересам и совпадает с интересами общества, в котором ты живеш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500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 факторов выбора профессии /по Е.А. Климову/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3 фактор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Позиция учителей, школьных педагогов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ытный педагог знает много такого о тебе, что скрыто от непрофессиональных глаз и даже от теб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00720" y="1844640"/>
            <a:ext cx="46432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 факторов выбора профессии /по Е.А. Климову/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4 фактор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Личные профессиональные планы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ПП –это то, чего человек хочет достичь и жизни и в професс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762440" y="1484280"/>
            <a:ext cx="38102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 факторов выбора профессии /по Е.А. Климову/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5 фактор Способност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того, чтобы какое-либо дело получалось необходимы определённые способ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211640" y="1600200"/>
            <a:ext cx="4265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18:00:25Z</dcterms:created>
  <dc:creator>Comp</dc:creator>
  <dc:description/>
  <dc:language>en-US</dc:language>
  <cp:lastModifiedBy>Comp</cp:lastModifiedBy>
  <dcterms:modified xsi:type="dcterms:W3CDTF">2011-04-29T17:22:23Z</dcterms:modified>
  <cp:revision>4</cp:revision>
  <dc:subject/>
  <dc:title>Классный час «Моя мечта… профессия»</dc:title>
</cp:coreProperties>
</file>